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5.jpeg" ContentType="image/jpeg"/>
  <Override PartName="/ppt/media/image48.png" ContentType="image/png"/>
  <Override PartName="/ppt/media/image44.png" ContentType="image/png"/>
  <Override PartName="/ppt/media/image43.jpeg" ContentType="image/jpeg"/>
  <Override PartName="/ppt/media/image21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4.png" ContentType="image/png"/>
  <Override PartName="/ppt/media/image25.jpeg" ContentType="image/jpeg"/>
  <Override PartName="/ppt/media/image37.jpeg" ContentType="image/jpeg"/>
  <Override PartName="/ppt/media/image60.jpeg" ContentType="image/jpeg"/>
  <Override PartName="/ppt/media/image24.png" ContentType="image/png"/>
  <Override PartName="/ppt/media/image15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18.jpeg" ContentType="image/jpeg"/>
  <Override PartName="/ppt/media/image66.jpeg" ContentType="image/jpeg"/>
  <Override PartName="/ppt/media/image11.png" ContentType="image/png"/>
  <Override PartName="/ppt/media/image65.jpeg" ContentType="image/jpeg"/>
  <Override PartName="/ppt/media/image5.gif" ContentType="image/gif"/>
  <Override PartName="/ppt/media/image8.png" ContentType="image/png"/>
  <Override PartName="/ppt/media/image19.jpeg" ContentType="image/jpeg"/>
  <Override PartName="/ppt/media/image63.jpeg" ContentType="image/jpeg"/>
  <Override PartName="/ppt/media/image55.jpeg" ContentType="image/jpeg"/>
  <Override PartName="/ppt/media/image17.jpeg" ContentType="image/jpeg"/>
  <Override PartName="/ppt/media/image61.jpeg" ContentType="image/jpeg"/>
  <Override PartName="/ppt/media/image40.png" ContentType="image/png"/>
  <Override PartName="/ppt/media/image54.jpeg" ContentType="image/jpeg"/>
  <Override PartName="/ppt/media/image16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media/camera.wav" ContentType="audio/x-wav"/>
  <Override PartName="/ppt/media/image46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12.png" ContentType="image/png"/>
  <Override PartName="/ppt/media/image27.jpeg" ContentType="image/jpeg"/>
  <Override PartName="/ppt/media/image50.jpeg" ContentType="image/jpeg"/>
  <Override PartName="/ppt/media/image35.jpeg" ContentType="image/jpeg"/>
  <Override PartName="/ppt/media/image47.png" ContentType="image/png"/>
  <Override PartName="/ppt/media/image29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30.jpeg" ContentType="image/jpeg"/>
  <Override PartName="/ppt/media/image68.gif" ContentType="image/gif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3.jpeg" ContentType="image/jpeg"/>
  <Override PartName="/ppt/media/image4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FBD-754A-4FD1-81FD-851F6240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45F-B093-47D1-8AAF-44E9FBEF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B07-B891-46E6-9BC1-597A58A0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A66-E2B6-4B18-8C54-1CF63E74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582-7754-4073-8B65-227491E6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BF9-76EB-4B3D-96E3-B31D01B2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F47-EFD1-4689-A016-03200022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7C9-AFDD-46B7-87E1-63A6FF64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94C-2B8C-4966-A5E4-C45F01BC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631-27C8-4F2D-850C-04769EDE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B5A-5028-49B9-BFE0-D9A7DD1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9F8-8793-401B-BF2E-1858E1E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73C0-E04A-4A2E-A536-4899A95DB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6.xml"/><Relationship Id="rId3" Type="http://schemas.openxmlformats.org/officeDocument/2006/relationships/image" Target="../media/image3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6.xml"/><Relationship Id="rId3" Type="http://schemas.openxmlformats.org/officeDocument/2006/relationships/image" Target="../media/image39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hyperlink" Target="file:///../U3(first)/4B3/4bu3/Who&apos;s%20that%20gril.swf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hyperlink" Target="file:///../U3(first)/4B3/4bu3/The%20sing%20happily.swf" TargetMode="External"/><Relationship Id="rId8" Type="http://schemas.openxmlformats.org/officeDocument/2006/relationships/image" Target="../media/image8.png"/><Relationship Id="rId9" Type="http://schemas.openxmlformats.org/officeDocument/2006/relationships/hyperlink" Target="file:///../U3(first)/4B3/4bu3/003.swf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11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5.jpeg"/><Relationship Id="rId4" Type="http://schemas.openxmlformats.org/officeDocument/2006/relationships/image" Target="../media/image1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ShockwaveFlash1"/>
          <p:cNvGraphicFramePr/>
          <p:nvPr/>
        </p:nvGraphicFramePr>
        <p:xfrm>
          <a:off x="1371600" y="990720"/>
          <a:ext cx="655164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90720"/>
                    <a:ext cx="6551640" cy="4724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2005050105310754788"/>
          <p:cNvPicPr/>
          <p:nvPr/>
        </p:nvPicPr>
        <p:blipFill>
          <a:blip r:embed="rId1"/>
          <a:stretch/>
        </p:blipFill>
        <p:spPr>
          <a:xfrm>
            <a:off x="-34920" y="-3008160"/>
            <a:ext cx="9178920" cy="986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ictur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838080"/>
            <a:ext cx="284652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876920" y="762120"/>
            <a:ext cx="45720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48520" y="1905120"/>
            <a:ext cx="45720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5000" y="3809880"/>
            <a:ext cx="4572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ull dir="ru"/>
    <p:sndAc>
      <p:stSnd>
        <p:snd r:embed="rId4" name="camera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icture"/>
          <p:cNvPicPr/>
          <p:nvPr/>
        </p:nvPicPr>
        <p:blipFill>
          <a:blip r:embed="rId2"/>
          <a:stretch/>
        </p:blipFill>
        <p:spPr>
          <a:xfrm>
            <a:off x="0" y="762120"/>
            <a:ext cx="154152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0" y="3505320"/>
            <a:ext cx="4836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Name (</a:t>
            </a: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姓名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) 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Age (</a:t>
            </a: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年龄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Job (</a:t>
            </a: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职业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) 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ShockwaveFlash1"/>
          <p:cNvGraphicFramePr/>
          <p:nvPr/>
        </p:nvGraphicFramePr>
        <p:xfrm>
          <a:off x="2438280" y="457200"/>
          <a:ext cx="63993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57200"/>
                    <a:ext cx="6399360" cy="487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05050105310754788"/>
          <p:cNvPicPr/>
          <p:nvPr/>
        </p:nvPicPr>
        <p:blipFill>
          <a:blip r:embed="rId1"/>
          <a:stretch/>
        </p:blipFill>
        <p:spPr>
          <a:xfrm>
            <a:off x="0" y="-2692440"/>
            <a:ext cx="9178920" cy="9866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258920" y="3645000"/>
            <a:ext cx="483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Name 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姓名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Age 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年龄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Job 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职业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pictur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05120" y="1600200"/>
            <a:ext cx="148248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B23"/>
          <p:cNvPicPr/>
          <p:nvPr/>
        </p:nvPicPr>
        <p:blipFill>
          <a:blip r:embed="rId4"/>
          <a:srcRect l="12024" t="8242" r="58798" b="70292"/>
          <a:stretch/>
        </p:blipFill>
        <p:spPr>
          <a:xfrm>
            <a:off x="1295280" y="380880"/>
            <a:ext cx="2648160" cy="32004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9"/>
          <p:cNvSpPr/>
          <p:nvPr/>
        </p:nvSpPr>
        <p:spPr>
          <a:xfrm>
            <a:off x="4572000" y="1752480"/>
            <a:ext cx="2209680" cy="137160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4039920" y="35812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811320" y="4343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734640" y="502920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wa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410080" y="3352680"/>
            <a:ext cx="3333960" cy="2219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  <p:sndAc>
      <p:stSnd>
        <p:snd r:embed="rId6" name="camera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005050105310754788"/>
          <p:cNvPicPr/>
          <p:nvPr/>
        </p:nvPicPr>
        <p:blipFill>
          <a:blip r:embed="rId1"/>
          <a:stretch/>
        </p:blipFill>
        <p:spPr>
          <a:xfrm>
            <a:off x="-762120" y="-3008160"/>
            <a:ext cx="9178920" cy="9866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228600" y="3124080"/>
            <a:ext cx="483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Names (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姓名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Age (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年龄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Job (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职业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2590920" y="1371600"/>
            <a:ext cx="2209680" cy="137160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2590920" y="3048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Jim and 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2209680" y="3429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287800" y="419112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949400" cy="246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23560" y="304920"/>
            <a:ext cx="3106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组活动：小组成员给机器人起名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介绍机器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990720"/>
            <a:ext cx="4267080" cy="33526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our robots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…,they are …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…s , we  love the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3" name="camera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light-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1593720" cy="1800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403280" y="1523880"/>
            <a:ext cx="796932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.Read after the tape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跟读磁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.Read in roles .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角色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.Act it out in roles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色扮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843280" y="476280"/>
            <a:ext cx="46004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Verdana"/>
              </a:rPr>
              <a:t>let's read !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50" name="Picture 6" descr="20089214293529_1"/>
          <p:cNvPicPr/>
          <p:nvPr/>
        </p:nvPicPr>
        <p:blipFill>
          <a:blip r:embed="rId4"/>
          <a:stretch/>
        </p:blipFill>
        <p:spPr>
          <a:xfrm>
            <a:off x="762120" y="31240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u=3634312097,3791098445&amp;fm=0&amp;gp=20"/>
          <p:cNvPicPr/>
          <p:nvPr/>
        </p:nvPicPr>
        <p:blipFill>
          <a:blip r:embed="rId5"/>
          <a:stretch/>
        </p:blipFill>
        <p:spPr>
          <a:xfrm>
            <a:off x="762120" y="3886200"/>
            <a:ext cx="691920" cy="800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20089214293529_1"/>
          <p:cNvPicPr/>
          <p:nvPr/>
        </p:nvPicPr>
        <p:blipFill>
          <a:blip r:embed="rId6"/>
          <a:stretch/>
        </p:blipFill>
        <p:spPr>
          <a:xfrm>
            <a:off x="838080" y="480060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047760" cy="297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3333600" cy="317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200400" y="251460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391440" y="0"/>
            <a:ext cx="2752560" cy="3333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553080" y="335268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6286680" y="4991040"/>
            <a:ext cx="2857320" cy="1866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52280" y="236232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09480" y="-990720"/>
            <a:ext cx="7848720" cy="5877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629400" y="3200400"/>
            <a:ext cx="2095560" cy="1676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3581280" y="5018040"/>
            <a:ext cx="25146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2685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04920" y="228600"/>
            <a:ext cx="21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et's talk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1828800"/>
            <a:ext cx="3657600" cy="4648320"/>
          </a:xfrm>
          <a:prstGeom prst="foldedCorner">
            <a:avLst>
              <a:gd name="adj" fmla="val 2794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1905120"/>
            <a:ext cx="4419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 What’s … nam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: I’m…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 How old 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 What’s … j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 what can you do?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你会做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: I ca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 Are they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7760" y="76212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Shang Hai science 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Comic Sans MS"/>
              </a:rPr>
              <a:t>上海科技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 rot="328200">
            <a:off x="151920" y="3581280"/>
            <a:ext cx="2133720" cy="142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2095560" cy="178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186876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 rot="190200">
            <a:off x="0" y="4952880"/>
            <a:ext cx="2095560" cy="1714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2514600" y="3505320"/>
            <a:ext cx="1138320" cy="1523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2362320" y="5162400"/>
            <a:ext cx="2133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light-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男孩"/>
          <p:cNvPicPr/>
          <p:nvPr/>
        </p:nvPicPr>
        <p:blipFill>
          <a:blip r:embed="rId2"/>
          <a:stretch/>
        </p:blipFill>
        <p:spPr>
          <a:xfrm>
            <a:off x="6781680" y="4419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4"/>
          <p:cNvSpPr/>
          <p:nvPr/>
        </p:nvSpPr>
        <p:spPr>
          <a:xfrm>
            <a:off x="6840" y="304920"/>
            <a:ext cx="87289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lo, my name is Tom. I am thirty years old. Thi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ly. She is thirty—one. We are good friends. I like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 I am in blue today. But Lily does not. She likes 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! She is in a red dress now . We work in a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a doctor and she is a nu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2120" y="3352680"/>
          <a:ext cx="5867280" cy="2960640"/>
        </p:xfrm>
        <a:graphic>
          <a:graphicData uri="http://schemas.openxmlformats.org/drawingml/2006/table">
            <a:tbl>
              <a:tblPr/>
              <a:tblGrid>
                <a:gridCol w="2895480"/>
                <a:gridCol w="152388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龄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urite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喜欢的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64"/>
          <p:cNvSpPr/>
          <p:nvPr/>
        </p:nvSpPr>
        <p:spPr>
          <a:xfrm>
            <a:off x="4041000" y="404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5"/>
          <p:cNvSpPr/>
          <p:nvPr/>
        </p:nvSpPr>
        <p:spPr>
          <a:xfrm>
            <a:off x="5564880" y="4038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6"/>
          <p:cNvSpPr/>
          <p:nvPr/>
        </p:nvSpPr>
        <p:spPr>
          <a:xfrm>
            <a:off x="3871800" y="48006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7"/>
          <p:cNvSpPr/>
          <p:nvPr/>
        </p:nvSpPr>
        <p:spPr>
          <a:xfrm>
            <a:off x="5412240" y="48006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8"/>
          <p:cNvSpPr/>
          <p:nvPr/>
        </p:nvSpPr>
        <p:spPr>
          <a:xfrm>
            <a:off x="3947760" y="5562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9"/>
          <p:cNvSpPr/>
          <p:nvPr/>
        </p:nvSpPr>
        <p:spPr>
          <a:xfrm>
            <a:off x="5438880" y="55627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8088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914400"/>
            <a:ext cx="1828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ty-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91440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152388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266688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266688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2005050105310754788"/>
          <p:cNvPicPr/>
          <p:nvPr/>
        </p:nvPicPr>
        <p:blipFill>
          <a:blip r:embed="rId1"/>
          <a:stretch/>
        </p:blipFill>
        <p:spPr>
          <a:xfrm>
            <a:off x="0" y="-2692440"/>
            <a:ext cx="9178920" cy="9866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066680" y="228600"/>
            <a:ext cx="2819520" cy="97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Homework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05740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text fluently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熟练朗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hang Hai Science Museum at weekends with your parents 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末和你的父母一起去上海科技馆参观一下机器人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2" descr="2008611843612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6" descr=""/>
          <p:cNvPicPr/>
          <p:nvPr/>
        </p:nvPicPr>
        <p:blipFill>
          <a:blip r:embed="rId2"/>
          <a:stretch/>
        </p:blipFill>
        <p:spPr>
          <a:xfrm>
            <a:off x="5535720" y="835200"/>
            <a:ext cx="2712960" cy="76824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371600" y="2590920"/>
            <a:ext cx="670572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Unit 3 What's your job?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6172200" y="5486400"/>
            <a:ext cx="609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w.w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8" name="Picture 12" descr="4a50efadt927ad56deb5d&amp;690"/>
          <p:cNvPicPr/>
          <p:nvPr/>
        </p:nvPicPr>
        <p:blipFill>
          <a:blip r:embed="rId3"/>
          <a:stretch/>
        </p:blipFill>
        <p:spPr>
          <a:xfrm>
            <a:off x="1066680" y="5324400"/>
            <a:ext cx="4648320" cy="619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{08A26C29-45D4-4096-BBEA-C6934E0702FA}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4114800"/>
            <a:ext cx="2257200" cy="117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{759F4F50-1826-4166-AAAE-91E5817C46A0}"/>
          <p:cNvPicPr/>
          <p:nvPr/>
        </p:nvPicPr>
        <p:blipFill>
          <a:blip r:embed="rId6"/>
          <a:stretch/>
        </p:blipFill>
        <p:spPr>
          <a:xfrm>
            <a:off x="3352680" y="990720"/>
            <a:ext cx="1890720" cy="102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{41365202-5664-4454-9E29-390E22D6CD5F}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4114800"/>
            <a:ext cx="177624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{B42C0A79-0C52-4A9F-BEA5-2DE60BD73DF8}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90720" y="1066680"/>
            <a:ext cx="20160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4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76920" y="266688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’m Chen F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581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’m 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33520" y="1600200"/>
            <a:ext cx="3674880" cy="373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2057400"/>
            <a:ext cx="1752480" cy="1393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28800" y="4952880"/>
            <a:ext cx="1905120" cy="1514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a cook"/>
          <p:cNvPicPr/>
          <p:nvPr/>
        </p:nvPicPr>
        <p:blipFill>
          <a:blip r:embed="rId3"/>
          <a:stretch/>
        </p:blipFill>
        <p:spPr>
          <a:xfrm rot="20873400">
            <a:off x="304560" y="228600"/>
            <a:ext cx="1143000" cy="92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a driver"/>
          <p:cNvPicPr/>
          <p:nvPr/>
        </p:nvPicPr>
        <p:blipFill>
          <a:blip r:embed="rId4"/>
          <a:stretch/>
        </p:blipFill>
        <p:spPr>
          <a:xfrm>
            <a:off x="7391520" y="152280"/>
            <a:ext cx="1600200" cy="1333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a policeman"/>
          <p:cNvPicPr/>
          <p:nvPr/>
        </p:nvPicPr>
        <p:blipFill>
          <a:blip r:embed="rId5"/>
          <a:srcRect l="9617" t="0" r="9617" b="0"/>
          <a:stretch/>
        </p:blipFill>
        <p:spPr>
          <a:xfrm>
            <a:off x="152280" y="4038480"/>
            <a:ext cx="1295640" cy="98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 policewoman"/>
          <p:cNvPicPr/>
          <p:nvPr/>
        </p:nvPicPr>
        <p:blipFill>
          <a:blip r:embed="rId6"/>
          <a:srcRect l="19234" t="0" r="19234" b="0"/>
          <a:stretch/>
        </p:blipFill>
        <p:spPr>
          <a:xfrm>
            <a:off x="3886200" y="152280"/>
            <a:ext cx="1219320" cy="88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a waitress"/>
          <p:cNvPicPr/>
          <p:nvPr/>
        </p:nvPicPr>
        <p:blipFill>
          <a:blip r:embed="rId7"/>
          <a:srcRect l="9568" t="0" r="19137" b="0"/>
          <a:stretch/>
        </p:blipFill>
        <p:spPr>
          <a:xfrm>
            <a:off x="5943600" y="4572000"/>
            <a:ext cx="1407960" cy="12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a waiter"/>
          <p:cNvPicPr/>
          <p:nvPr/>
        </p:nvPicPr>
        <p:blipFill>
          <a:blip r:embed="rId8"/>
          <a:srcRect l="9617" t="0" r="9617" b="0"/>
          <a:stretch/>
        </p:blipFill>
        <p:spPr>
          <a:xfrm>
            <a:off x="7881840" y="3048120"/>
            <a:ext cx="1262160" cy="123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 worker"/>
          <p:cNvPicPr/>
          <p:nvPr/>
        </p:nvPicPr>
        <p:blipFill>
          <a:blip r:embed="rId9"/>
          <a:srcRect l="9617" t="0" r="9617" b="0"/>
          <a:stretch/>
        </p:blipFill>
        <p:spPr>
          <a:xfrm>
            <a:off x="304920" y="2286000"/>
            <a:ext cx="1268280" cy="11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 farmer"/>
          <p:cNvPicPr/>
          <p:nvPr/>
        </p:nvPicPr>
        <p:blipFill>
          <a:blip r:embed="rId10"/>
          <a:srcRect l="19234" t="0" r="19234" b="0"/>
          <a:stretch/>
        </p:blipFill>
        <p:spPr>
          <a:xfrm>
            <a:off x="3962520" y="5029200"/>
            <a:ext cx="1668240" cy="1036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1143000"/>
            <a:ext cx="14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Comic Sans MS"/>
              </a:rPr>
              <a:t>c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2578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Comic Sans MS"/>
              </a:rPr>
              <a:t>police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35268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Comic Sans MS"/>
              </a:rPr>
              <a:t>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9436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Comic Sans MS"/>
              </a:rPr>
              <a:t>fa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144792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Comic Sans MS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28000" y="51055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Comic Sans MS"/>
              </a:rPr>
              <a:t>wai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0666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Comic Sans MS"/>
              </a:rPr>
              <a:t>police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434340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Comic Sans MS"/>
              </a:rPr>
              <a:t>wa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1">
            <a:lum bright="20000"/>
          </a:blip>
          <a:stretch/>
        </p:blipFill>
        <p:spPr>
          <a:xfrm>
            <a:off x="3124080" y="1676520"/>
            <a:ext cx="2549520" cy="2590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73680" y="3760920"/>
            <a:ext cx="26251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Comic Sans MS"/>
              </a:rPr>
              <a:t>Is she a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5715000" y="152280"/>
            <a:ext cx="1752480" cy="1392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1295280" y="0"/>
            <a:ext cx="18288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4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1143000" y="1371600"/>
            <a:ext cx="2700360" cy="2743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1143000" y="4114800"/>
            <a:ext cx="42670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’m a wait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914400" y="3962520"/>
            <a:ext cx="5832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: What is her job?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: She’s a …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7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4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: Are they …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/e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?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: Yes, they are./No, they are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90720" y="5105520"/>
            <a:ext cx="339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aitres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3886200" cy="2576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0" y="3352680"/>
            <a:ext cx="99072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048120"/>
            <a:ext cx="761760" cy="12189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29480" y="502920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armer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4" name="camera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4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838080"/>
            <a:ext cx="7848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: What are 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their</a:t>
            </a:r>
            <a:r>
              <a:rPr b="0" lang="zh-CN" sz="2000" spc="-1" strike="noStrike">
                <a:solidFill>
                  <a:srgbClr val="333399"/>
                </a:solidFill>
                <a:latin typeface="Comic Sans MS"/>
              </a:rPr>
              <a:t>（他们的）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b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523880"/>
            <a:ext cx="57913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: They are…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4114800" cy="272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400" y="5105520"/>
            <a:ext cx="18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orker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4876920" y="2666880"/>
            <a:ext cx="3886200" cy="2208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008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1120" y="495288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ok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1680" y="2286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249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3124080" cy="22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3581640" cy="263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562720" y="2362320"/>
            <a:ext cx="3352680" cy="1912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2514600"/>
            <a:ext cx="579132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: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ir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（他们的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ob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124080"/>
            <a:ext cx="49528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: They are…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-1295280" y="-360"/>
            <a:ext cx="6858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  and gues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219320"/>
            <a:ext cx="54864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组活动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组成员扮演并操练对话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51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980320" y="2036880"/>
            <a:ext cx="2143080" cy="7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机器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4191120" cy="2897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>
            <a:lum bright="26000"/>
          </a:blip>
          <a:stretch/>
        </p:blipFill>
        <p:spPr>
          <a:xfrm>
            <a:off x="4952880" y="3733920"/>
            <a:ext cx="3333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1T14:01:0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